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16357-2041-4A89-906A-B599226EA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BEBF5-23C9-45FE-90CA-D30A094E4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860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4960" cy="41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1AF-E6EC-436A-AF8B-81F507DE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370-C376-49D2-A482-C744527D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572-FED6-4C6D-9AA7-FDFED493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635-F353-4CBF-8851-B485964B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EB3-4F24-46EA-B480-BE4C7170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635-CA3A-4D47-81EF-64A46B97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F1E-EFD5-4ECE-8ACA-33CFF00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E44-A12A-4263-83EA-44F9C7BE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F92-402B-43ED-843C-6C0A9066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F69-631C-4112-95D4-2337AF7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A1E-7E52-4AB4-90CD-916FB75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95D-E625-4D79-BA88-7303E71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F7971-B725-449E-AB9B-027FB6D40F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gbujic@ccf.org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anticDB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757680"/>
            <a:ext cx="64008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mezie Ogb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veland Clinic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gbujic@ccf.or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/ chimezie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62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ebruary 14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A79CD-5483-4360-897E-95E4DE8EEED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09680"/>
            <a:ext cx="9140760" cy="457524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1397160"/>
            <a:ext cx="8791560" cy="4400280"/>
          </a:xfrm>
          <a:prstGeom prst="triangle">
            <a:avLst>
              <a:gd name="adj" fmla="val 50000"/>
            </a:avLst>
          </a:prstGeom>
          <a:solidFill>
            <a:srgbClr val="2323b9"/>
          </a:solidFill>
          <a:ln w="0">
            <a:noFill/>
          </a:ln>
          <a:effectLst>
            <a:outerShdw dist="17819" dir="2700000" blurRad="0" rotWithShape="0">
              <a:srgbClr val="151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7000" y="1397160"/>
            <a:ext cx="7315200" cy="366048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60680" y="1397160"/>
            <a:ext cx="5848200" cy="2923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7960" y="2130480"/>
            <a:ext cx="4390920" cy="2190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60680" y="2130480"/>
            <a:ext cx="4387680" cy="2190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2492280"/>
            <a:ext cx="3657600" cy="1828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5360" y="2492280"/>
            <a:ext cx="3654360" cy="1828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5960" y="2863800"/>
            <a:ext cx="4380120" cy="219384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3600360"/>
            <a:ext cx="2917800" cy="1457280"/>
          </a:xfrm>
          <a:prstGeom prst="triangle">
            <a:avLst>
              <a:gd name="adj" fmla="val 50000"/>
            </a:avLst>
          </a:prstGeom>
          <a:solidFill>
            <a:srgbClr val="6b71c5"/>
          </a:solidFill>
          <a:ln w="0">
            <a:noFill/>
          </a:ln>
          <a:effectLst>
            <a:outerShdw dist="17819" dir="2700000" blurRad="0" rotWithShape="0">
              <a:srgbClr val="4044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8160" y="2863800"/>
            <a:ext cx="4380120" cy="2193840"/>
          </a:xfrm>
          <a:prstGeom prst="triangle">
            <a:avLst>
              <a:gd name="adj" fmla="val 50000"/>
            </a:avLst>
          </a:prstGeom>
          <a:solidFill>
            <a:srgbClr val="8c91d2"/>
          </a:solidFill>
          <a:ln w="0">
            <a:noFill/>
          </a:ln>
          <a:effectLst>
            <a:outerShdw dist="17819" dir="2700000" blurRad="0" rotWithShape="0">
              <a:srgbClr val="5457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27000" y="3600360"/>
            <a:ext cx="2924280" cy="1457280"/>
          </a:xfrm>
          <a:prstGeom prst="triangle">
            <a:avLst>
              <a:gd name="adj" fmla="val 50000"/>
            </a:avLst>
          </a:prstGeom>
          <a:solidFill>
            <a:srgbClr val="6b71c5"/>
          </a:solidFill>
          <a:ln w="0">
            <a:noFill/>
          </a:ln>
          <a:effectLst>
            <a:outerShdw dist="17819" dir="2700000" blurRad="0" rotWithShape="0">
              <a:srgbClr val="4044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66800" y="3600360"/>
            <a:ext cx="2913120" cy="1457280"/>
          </a:xfrm>
          <a:prstGeom prst="triangle">
            <a:avLst>
              <a:gd name="adj" fmla="val 50000"/>
            </a:avLst>
          </a:prstGeom>
          <a:solidFill>
            <a:srgbClr val="5b62bf"/>
          </a:solidFill>
          <a:ln w="0">
            <a:noFill/>
          </a:ln>
          <a:effectLst>
            <a:outerShdw dist="17819" dir="2700000" blurRad="0" rotWithShape="0">
              <a:srgbClr val="373b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3600360"/>
            <a:ext cx="2924280" cy="1457280"/>
          </a:xfrm>
          <a:prstGeom prst="triangle">
            <a:avLst>
              <a:gd name="adj" fmla="val 50000"/>
            </a:avLst>
          </a:prstGeom>
          <a:solidFill>
            <a:srgbClr val="5b62bf"/>
          </a:solidFill>
          <a:ln w="0">
            <a:noFill/>
          </a:ln>
          <a:effectLst>
            <a:outerShdw dist="17819" dir="2700000" blurRad="0" rotWithShape="0">
              <a:srgbClr val="373b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65320" y="1535040"/>
            <a:ext cx="1428120" cy="1231200"/>
            <a:chOff x="3865320" y="1535040"/>
            <a:chExt cx="1428120" cy="1231200"/>
          </a:xfrm>
        </p:grpSpPr>
        <p:sp>
          <p:nvSpPr>
            <p:cNvPr id="69" name=""/>
            <p:cNvSpPr/>
            <p:nvPr/>
          </p:nvSpPr>
          <p:spPr>
            <a:xfrm>
              <a:off x="4330080" y="1535040"/>
              <a:ext cx="5158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0160" y="1771560"/>
              <a:ext cx="5479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Intangi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56520" y="1809720"/>
              <a:ext cx="535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68200" y="2008080"/>
              <a:ext cx="5252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empor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4480" y="2008080"/>
              <a:ext cx="421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a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15840" y="2219400"/>
              <a:ext cx="489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rtial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angi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41080" y="2297160"/>
              <a:ext cx="3805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th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65320" y="2006640"/>
              <a:ext cx="5097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e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3640" y="2508120"/>
              <a:ext cx="3697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og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a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765440" y="4143240"/>
            <a:ext cx="2667960" cy="934200"/>
            <a:chOff x="1765440" y="4143240"/>
            <a:chExt cx="2667960" cy="934200"/>
          </a:xfrm>
        </p:grpSpPr>
        <p:sp>
          <p:nvSpPr>
            <p:cNvPr id="79" name=""/>
            <p:cNvSpPr/>
            <p:nvPr/>
          </p:nvSpPr>
          <p:spPr>
            <a:xfrm>
              <a:off x="2498760" y="4184640"/>
              <a:ext cx="478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rtifac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03840" y="4737240"/>
              <a:ext cx="5295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c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lations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ultu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1640" y="4143240"/>
              <a:ext cx="579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natomy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hysiolog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75120" y="4433760"/>
              <a:ext cx="5677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mo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ercep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elie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8320" y="4433760"/>
              <a:ext cx="5752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ehavior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c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13920" y="4475160"/>
              <a:ext cx="499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roduc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e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54920" y="4475160"/>
              <a:ext cx="586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ncept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ork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65440" y="4735440"/>
              <a:ext cx="6825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Vehic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uildin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eap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5040" y="4737240"/>
              <a:ext cx="58464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echani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&amp; Electri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evi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80360" y="4737240"/>
              <a:ext cx="6271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ftw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iteratu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orks of Ar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37280" y="4818240"/>
              <a:ext cx="5374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angua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96840" y="3462480"/>
            <a:ext cx="3533040" cy="1622880"/>
            <a:chOff x="4596840" y="3462480"/>
            <a:chExt cx="3533040" cy="1622880"/>
          </a:xfrm>
        </p:grpSpPr>
        <p:grpSp>
          <p:nvGrpSpPr>
            <p:cNvPr id="91" name=""/>
            <p:cNvGrpSpPr/>
            <p:nvPr/>
          </p:nvGrpSpPr>
          <p:grpSpPr>
            <a:xfrm>
              <a:off x="4596840" y="3462480"/>
              <a:ext cx="2151720" cy="981720"/>
              <a:chOff x="4596840" y="3462480"/>
              <a:chExt cx="2151720" cy="981720"/>
            </a:xfrm>
          </p:grpSpPr>
          <p:sp>
            <p:nvSpPr>
              <p:cNvPr id="92" name=""/>
              <p:cNvSpPr/>
              <p:nvPr/>
            </p:nvSpPr>
            <p:spPr>
              <a:xfrm>
                <a:off x="4596840" y="418608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Age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80920" y="3462480"/>
                <a:ext cx="71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Ac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010840" y="3830760"/>
                <a:ext cx="71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Pla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63480" y="346248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Types of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481080" y="3830760"/>
              <a:ext cx="1648800" cy="1254600"/>
              <a:chOff x="6481080" y="3830760"/>
              <a:chExt cx="1648800" cy="1254600"/>
            </a:xfrm>
          </p:grpSpPr>
          <p:sp>
            <p:nvSpPr>
              <p:cNvPr id="97" name=""/>
              <p:cNvSpPr/>
              <p:nvPr/>
            </p:nvSpPr>
            <p:spPr>
              <a:xfrm>
                <a:off x="6481080" y="3830760"/>
                <a:ext cx="6850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Huma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11920" y="4145040"/>
                <a:ext cx="66672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N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overnment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-Politic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44800" y="4745160"/>
                <a:ext cx="68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Business,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Militar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Organization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63360" y="4516560"/>
                <a:ext cx="32256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Law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812840" y="4186080"/>
            <a:ext cx="2508840" cy="860040"/>
            <a:chOff x="4812840" y="4186080"/>
            <a:chExt cx="2508840" cy="860040"/>
          </a:xfrm>
        </p:grpSpPr>
        <p:sp>
          <p:nvSpPr>
            <p:cNvPr id="102" name=""/>
            <p:cNvSpPr/>
            <p:nvPr/>
          </p:nvSpPr>
          <p:spPr>
            <a:xfrm>
              <a:off x="5457240" y="4186080"/>
              <a:ext cx="573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usiness &amp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mmer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0000" y="4186080"/>
              <a:ext cx="4701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oli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Warf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6920" y="4475160"/>
              <a:ext cx="627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rofess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Occupatio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7960" y="4475160"/>
              <a:ext cx="5832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urchas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69600" y="4788000"/>
              <a:ext cx="7524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rav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Commun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75520" y="4788000"/>
              <a:ext cx="717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Transport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&amp; Logis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2840" y="4788000"/>
              <a:ext cx="4978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oc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Activiti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16240" y="4788000"/>
              <a:ext cx="505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veryda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Liv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97360" y="4437000"/>
              <a:ext cx="698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o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Recre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Entertain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93160" y="2486160"/>
            <a:ext cx="2003400" cy="1630440"/>
            <a:chOff x="3593160" y="2486160"/>
            <a:chExt cx="2003400" cy="1630440"/>
          </a:xfrm>
        </p:grpSpPr>
        <p:sp>
          <p:nvSpPr>
            <p:cNvPr id="112" name=""/>
            <p:cNvSpPr/>
            <p:nvPr/>
          </p:nvSpPr>
          <p:spPr>
            <a:xfrm>
              <a:off x="4638960" y="2792520"/>
              <a:ext cx="578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rtifac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33600" y="3138480"/>
              <a:ext cx="6987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Mov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1880" y="3457440"/>
              <a:ext cx="6577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tate Ch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Dynam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3160" y="3056040"/>
              <a:ext cx="5130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Materia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r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tatic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7040" y="3803760"/>
              <a:ext cx="56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Phys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g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39480" y="2746440"/>
              <a:ext cx="537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Border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Geomet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17600" y="2486160"/>
              <a:ext cx="50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Ev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Scrip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63440" y="2508120"/>
              <a:ext cx="421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Spa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 Black"/>
                </a:rPr>
                <a:t>Path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5200" y="3076560"/>
              <a:ext cx="531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cto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Ac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30040" y="3436920"/>
              <a:ext cx="45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Pla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10160" y="2287440"/>
            <a:ext cx="3603240" cy="1856880"/>
            <a:chOff x="2810160" y="2287440"/>
            <a:chExt cx="3603240" cy="1856880"/>
          </a:xfrm>
        </p:grpSpPr>
        <p:sp>
          <p:nvSpPr>
            <p:cNvPr id="123" name=""/>
            <p:cNvSpPr/>
            <p:nvPr/>
          </p:nvSpPr>
          <p:spPr>
            <a:xfrm>
              <a:off x="5092560" y="2287440"/>
              <a:ext cx="473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02160" y="2692440"/>
              <a:ext cx="5950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90280" y="2287440"/>
              <a:ext cx="5328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74480" y="2698920"/>
              <a:ext cx="6562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Ob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0520" y="3776760"/>
              <a:ext cx="6210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Be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4120" y="3054240"/>
              <a:ext cx="5997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Org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6720" y="3776760"/>
              <a:ext cx="706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Hu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Activ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0160" y="3054240"/>
              <a:ext cx="577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Liv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Th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41480" y="3436920"/>
            <a:ext cx="3835080" cy="1609200"/>
            <a:chOff x="1041480" y="3436920"/>
            <a:chExt cx="3835080" cy="1609200"/>
          </a:xfrm>
        </p:grpSpPr>
        <p:grpSp>
          <p:nvGrpSpPr>
            <p:cNvPr id="132" name=""/>
            <p:cNvGrpSpPr/>
            <p:nvPr/>
          </p:nvGrpSpPr>
          <p:grpSpPr>
            <a:xfrm>
              <a:off x="2458080" y="3436920"/>
              <a:ext cx="2418480" cy="1325520"/>
              <a:chOff x="2458080" y="3436920"/>
              <a:chExt cx="2418480" cy="1325520"/>
            </a:xfrm>
          </p:grpSpPr>
          <p:sp>
            <p:nvSpPr>
              <p:cNvPr id="133" name=""/>
              <p:cNvSpPr/>
              <p:nvPr/>
            </p:nvSpPr>
            <p:spPr>
              <a:xfrm>
                <a:off x="4267440" y="4449600"/>
                <a:ext cx="609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Soc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Behavi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10840" y="3436920"/>
                <a:ext cx="483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Lif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Form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000" y="4213080"/>
                <a:ext cx="56340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Anima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68680" y="3855960"/>
                <a:ext cx="4748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Plan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58080" y="3490920"/>
                <a:ext cx="5511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 Black"/>
                  </a:rPr>
                  <a:t>Ecolo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041480" y="3830760"/>
              <a:ext cx="1567800" cy="1215360"/>
              <a:chOff x="1041480" y="3830760"/>
              <a:chExt cx="1567800" cy="1215360"/>
            </a:xfrm>
          </p:grpSpPr>
          <p:sp>
            <p:nvSpPr>
              <p:cNvPr id="139" name=""/>
              <p:cNvSpPr/>
              <p:nvPr/>
            </p:nvSpPr>
            <p:spPr>
              <a:xfrm>
                <a:off x="2029320" y="3830760"/>
                <a:ext cx="579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Natur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graph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41480" y="4788000"/>
                <a:ext cx="64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Earth &amp;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Solar 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03880" y="4186080"/>
                <a:ext cx="579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Political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Geograph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48640" y="4516560"/>
                <a:ext cx="48708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 Black"/>
                  </a:rPr>
                  <a:t>Weath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1886760" y="5281560"/>
            <a:ext cx="53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General Knowledge about Various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3520" y="1434960"/>
            <a:ext cx="30067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yc cont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5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edicates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00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,200,000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75400" y="1352520"/>
            <a:ext cx="3301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Represented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First Orde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Higher Orde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Context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DejaVu Sans"/>
              </a:rPr>
              <a:t>Micro-the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80" y="5865840"/>
            <a:ext cx="9086760" cy="87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" y="5907240"/>
            <a:ext cx="8817120" cy="7934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0240" y="5721480"/>
            <a:ext cx="4584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Specific data, facts, an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990720"/>
            <a:ext cx="3962520" cy="4038480"/>
            <a:chOff x="380880" y="990720"/>
            <a:chExt cx="3962520" cy="4038480"/>
          </a:xfrm>
        </p:grpSpPr>
        <p:sp>
          <p:nvSpPr>
            <p:cNvPr id="150" name=""/>
            <p:cNvSpPr/>
            <p:nvPr/>
          </p:nvSpPr>
          <p:spPr>
            <a:xfrm flipH="1">
              <a:off x="3196800" y="1143000"/>
              <a:ext cx="99684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30280" y="2819520"/>
              <a:ext cx="2063520" cy="2057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990720"/>
              <a:ext cx="3049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880" y="4724280"/>
              <a:ext cx="3049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57200" y="-8748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yc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50800" y="1727280"/>
            <a:ext cx="5808960" cy="4714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ient Record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82560" y="2201760"/>
            <a:ext cx="504828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3664080"/>
            <a:ext cx="67168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508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all patients who had a pericardial aortic valve implanted during an aortic valve replace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85680" y="2479680"/>
            <a:ext cx="7015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 patients who had a tumor excision between 1980 and 200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